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8EF4-422D-4824-8A04-B2277F84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2F6-43F6-4E31-9E89-55BA0F89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47F9-3E2D-4E6E-AFA2-4DBCCC46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83F1-5F02-4619-8471-0680ACCB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C0EC-E819-415A-B701-E33B5D80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5A7C-EFD7-4D1A-ABDA-4982017C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ED32-62B3-49C2-864A-F28F03CA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0D88-2FA1-4606-AC03-F0E8A822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F520-F9C7-4DAD-8C7C-037BDA0B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4D9A-E38D-4D20-A340-B5231B02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08BE-D2C2-43DD-AEA0-8846F6F6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BEE-1E78-4E16-9AF6-76FA2C2F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008B-C4F7-49C4-ACD4-08D6EF41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4E0F-A10D-41BD-8979-27D48C8D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FD1F-0815-4672-9C2C-22707EFF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7743-8D5E-481C-A85B-0A1BC6B3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85A0-47E5-4044-A69F-8A145352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32D0-E0D2-463D-9C4D-9F13462B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FBD1-7BAC-4CD2-A360-BA6C387F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95BC-13F3-4602-9AFB-B7B2E5CC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C46A-A9A9-49DB-A8FC-447E9B7B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C997-414A-46D2-9DCA-B8440D68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E07B-2751-4D31-8471-1EE87059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7094-0AC0-4260-A485-CCB386FC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93F6-7BF4-4755-AE30-B946CD39EB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D6ED-9D16-4BAF-A54F-0D53FB2C5A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and C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1240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Producer Alyssa Monceau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urpose of this movie is to inform the viewer about sand cats. The movie will tell you the environment it lives in, what it eat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movie will be special because it is about an animal that most people don’t even kn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d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p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20:59:48Z</dcterms:created>
  <dc:creator/>
  <dc:description/>
  <dc:language>en-US</dc:language>
  <cp:lastModifiedBy>City School</cp:lastModifiedBy>
  <dcterms:modified xsi:type="dcterms:W3CDTF">2013-02-21T21:20:34Z</dcterms:modified>
  <cp:revision>48</cp:revision>
  <dc:subject/>
  <dc:title>The Pitch-Then-Plan Business Planning Template</dc:title>
</cp:coreProperties>
</file>